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D42C-E792-44E4-B766-C5F4A43A6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F6F9-8068-45D1-B385-66D31CE60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EC8E-F09A-404B-A00D-F28AFF9C1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DAA6-F118-452C-99C3-5AF3C6CF5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29A2-DC3F-4684-A420-0499BB260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50EF-7E25-4D57-AA5D-BDB9FA195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3AE7-7100-41F8-95B1-4FFDDD036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BA55-7B3E-4156-B9F5-9FFF16478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6D2F-5C83-4862-8FE6-F87EC6CDD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21B0-4CCB-4FA8-A4D5-58F7798F4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CB54-4C77-4ECF-9EFB-8914F364B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548B-DB74-4A98-AE83-2CEA8A004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6897-267A-4A52-A1D8-27658B51A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73A7-EBE0-4BB3-99A9-C79FC4CF60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BF12-101A-4657-8C54-65D1CE7D0B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2478"/>
                </a:solidFill>
                <a:latin typeface="Tahoma"/>
                <a:ea typeface="Tahoma"/>
              </a:rPr>
              <a:t>Math Tr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Math Trail Location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99072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gall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cery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ghbour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3721320" cy="372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blazer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5376960" y="2133720"/>
            <a:ext cx="1938240" cy="3614760"/>
          </a:xfrm>
          <a:prstGeom prst="rect">
            <a:avLst/>
          </a:prstGeom>
          <a:ln w="0">
            <a:noFill/>
          </a:ln>
        </p:spPr>
      </p:pic>
      <p:sp>
        <p:nvSpPr>
          <p:cNvPr id="143" name="Right Arrow 4"/>
          <p:cNvSpPr/>
          <p:nvPr/>
        </p:nvSpPr>
        <p:spPr>
          <a:xfrm rot="1376400">
            <a:off x="3009960" y="1289160"/>
            <a:ext cx="2778120" cy="366480"/>
          </a:xfrm>
          <a:prstGeom prst="rightArrow">
            <a:avLst>
              <a:gd name="adj1" fmla="val 50000"/>
              <a:gd name="adj2" fmla="val 49870"/>
            </a:avLst>
          </a:prstGeom>
          <a:solidFill>
            <a:srgbClr val="5a95d2"/>
          </a:solidFill>
          <a:ln w="9360">
            <a:solidFill>
              <a:srgbClr val="2654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990720"/>
            <a:ext cx="2286000" cy="304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blazer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5376960" y="2133720"/>
            <a:ext cx="1938240" cy="3614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2"/>
          <a:stretch/>
        </p:blipFill>
        <p:spPr>
          <a:xfrm>
            <a:off x="7467480" y="2133720"/>
            <a:ext cx="1424160" cy="3429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57200" y="990720"/>
            <a:ext cx="2286000" cy="304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blazer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5376960" y="2133720"/>
            <a:ext cx="1938240" cy="3614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3763800" y="2362320"/>
            <a:ext cx="157032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467480" y="2133720"/>
            <a:ext cx="142416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57200" y="990720"/>
            <a:ext cx="2286000" cy="304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blazer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376960" y="2133720"/>
            <a:ext cx="1938240" cy="3614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2"/>
          <a:stretch/>
        </p:blipFill>
        <p:spPr>
          <a:xfrm>
            <a:off x="2286000" y="2438280"/>
            <a:ext cx="1523880" cy="3343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3763800" y="2362320"/>
            <a:ext cx="157032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4"/>
          <a:stretch/>
        </p:blipFill>
        <p:spPr>
          <a:xfrm>
            <a:off x="7467480" y="2133720"/>
            <a:ext cx="1424160" cy="3429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990720"/>
            <a:ext cx="2286000" cy="304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blazer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5376960" y="2133720"/>
            <a:ext cx="1938240" cy="3614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2"/>
          <a:stretch/>
        </p:blipFill>
        <p:spPr>
          <a:xfrm>
            <a:off x="76320" y="2362320"/>
            <a:ext cx="2166840" cy="3565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2286000" y="2438280"/>
            <a:ext cx="1523880" cy="3343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4"/>
          <a:stretch/>
        </p:blipFill>
        <p:spPr>
          <a:xfrm>
            <a:off x="3763800" y="2362320"/>
            <a:ext cx="1570320" cy="342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5"/>
          <a:stretch/>
        </p:blipFill>
        <p:spPr>
          <a:xfrm>
            <a:off x="7467480" y="2133720"/>
            <a:ext cx="1424160" cy="3429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57200" y="990720"/>
            <a:ext cx="2286000" cy="304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EA3D-2188-48BE-A194-F36DD9C564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Curved Connector 15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1066680" cy="23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0" y="1447920"/>
            <a:ext cx="1481040" cy="2436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43C7-9EC2-4985-89C8-5D83057765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Curved Connector 15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>
            <a:off x="228600" y="3124080"/>
            <a:ext cx="1066680" cy="2340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3"/>
          <a:stretch/>
        </p:blipFill>
        <p:spPr>
          <a:xfrm>
            <a:off x="1828800" y="1828800"/>
            <a:ext cx="1324080" cy="2470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973080" cy="2343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5"/>
          <a:stretch/>
        </p:blipFill>
        <p:spPr>
          <a:xfrm>
            <a:off x="2209680" y="3429000"/>
            <a:ext cx="973080" cy="2343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6"/>
          <a:stretch/>
        </p:blipFill>
        <p:spPr>
          <a:xfrm>
            <a:off x="3200400" y="3276720"/>
            <a:ext cx="1041480" cy="2284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"/>
          <p:cNvPicPr/>
          <p:nvPr/>
        </p:nvPicPr>
        <p:blipFill>
          <a:blip r:embed="rId7"/>
          <a:stretch/>
        </p:blipFill>
        <p:spPr>
          <a:xfrm>
            <a:off x="1066680" y="1523880"/>
            <a:ext cx="973080" cy="2343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8"/>
          <a:stretch/>
        </p:blipFill>
        <p:spPr>
          <a:xfrm>
            <a:off x="1295280" y="3124080"/>
            <a:ext cx="1073160" cy="23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8871-3A34-4EEF-A12A-3829EE35BD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Curved Connector 15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1066680" cy="2340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973080" cy="2343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>
            <a:off x="1295280" y="3124080"/>
            <a:ext cx="1073160" cy="2343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4"/>
          <a:stretch/>
        </p:blipFill>
        <p:spPr>
          <a:xfrm>
            <a:off x="3048120" y="3200400"/>
            <a:ext cx="1481040" cy="2436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5"/>
          <a:stretch/>
        </p:blipFill>
        <p:spPr>
          <a:xfrm>
            <a:off x="4267080" y="3200400"/>
            <a:ext cx="1324080" cy="24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14 Location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057400" cy="2803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2743200" y="2514600"/>
            <a:ext cx="3166920" cy="1430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3"/>
          <a:stretch/>
        </p:blipFill>
        <p:spPr>
          <a:xfrm>
            <a:off x="3835440" y="939960"/>
            <a:ext cx="2057400" cy="14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4"/>
          <a:stretch/>
        </p:blipFill>
        <p:spPr>
          <a:xfrm>
            <a:off x="6019920" y="1801800"/>
            <a:ext cx="1197000" cy="216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5"/>
          <a:stretch/>
        </p:blipFill>
        <p:spPr>
          <a:xfrm>
            <a:off x="7315200" y="1676520"/>
            <a:ext cx="1463760" cy="3886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6"/>
          <a:stretch/>
        </p:blipFill>
        <p:spPr>
          <a:xfrm>
            <a:off x="609480" y="4038480"/>
            <a:ext cx="6637320" cy="149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45A1-3098-4495-9AE9-A1E15968B4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Curved Connector 10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  <p:sp>
        <p:nvSpPr>
          <p:cNvPr id="90" name="Smiley Face 9"/>
          <p:cNvSpPr/>
          <p:nvPr/>
        </p:nvSpPr>
        <p:spPr>
          <a:xfrm>
            <a:off x="457200" y="41911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1448-150B-4236-A484-0B0EA3C069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2478"/>
                </a:solidFill>
                <a:latin typeface="Tahoma"/>
                <a:ea typeface="Tahoma"/>
              </a:rPr>
              <a:t>Math Tr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2.59259E-006 C 0.02431 -0.00255 0.04862 -0.00394 0.0731 -0.00486 C 0.08108 -0.00649 0.09723 -0.00857 0.09723 -0.00857 C 0.10903 -0.01227 0.12101 -0.01366 0.13334 -0.01482 C 0.14619 -0.01899 0.15903 -0.02199 0.17223 -0.02454 C 0.17969 -0.02848 0.18751 -0.03033 0.19532 -0.03334 C 0.20087 -0.03565 0.19723 -0.03519 0.20192 -0.0382 C 0.21112 -0.04445 0.22119 -0.05 0.23143 -0.05301 C 0.23716 -0.05695 0.24445 -0.06042 0.25087 -0.06158 C 0.25643 -0.06551 0.26233 -0.06667 0.26858 -0.06899 C 0.27223 -0.07061 0.27483 -0.07385 0.27865 -0.07524 C 0.28351 -0.08033 0.28942 -0.08403 0.29532 -0.08635 C 0.29844 -0.08936 0.30226 -0.09074 0.30556 -0.09375 C 0.31094 -0.09931 0.31702 -0.10486 0.3231 -0.10973 C 0.32917 -0.11505 0.3224 -0.10672 0.32865 -0.11343 C 0.33438 -0.11991 0.3382 -0.12894 0.34445 -0.13449 C 0.34636 -0.14306 0.34358 -0.1338 0.3481 -0.14074 C 0.35035 -0.14468 0.35192 -0.1507 0.35469 -0.15417 C 0.35643 -0.15672 0.36112 -0.16042 0.36112 -0.16042 C 0.36337 -0.16505 0.36528 -0.17199 0.36858 -0.17524 C 0.36997 -0.17686 0.37171 -0.17824 0.3731 -0.1801 C 0.38525 -0.19838 0.3731 -0.18172 0.37969 -0.19375 C 0.38334 -0.2007 0.38143 -0.19422 0.38421 -0.20116 C 0.38646 -0.20764 0.38803 -0.21667 0.38976 -0.22338 C 0.39028 -0.22639 0.39167 -0.23195 0.39167 -0.23195 C 0.39271 -0.24908 0.39185 -0.27616 0.39914 -0.29005 C 0.40122 -0.29954 0.4066 -0.30649 0.41025 -0.31482 C 0.41303 -0.32176 0.4158 -0.32917 0.41945 -0.33565 C 0.42067 -0.34144 0.42292 -0.34306 0.42692 -0.34561 C 0.42987 -0.35209 0.43195 -0.3551 0.43698 -0.35926 C 0.43785 -0.36019 0.43976 -0.36158 0.43976 -0.36158 C 0.4448 -0.37547 0.44896 -0.37709 0.45834 -0.38519 C 0.46094 -0.38797 0.4632 -0.39098 0.46667 -0.3926 C 0.47084 -0.39838 0.47639 -0.40324 0.48247 -0.40486 C 0.48872 -0.41135 0.49671 -0.4132 0.50348 -0.41852 C 0.50799 -0.42246 0.51407 -0.42662 0.51858 -0.43079 C 0.52414 -0.43681 0.52952 -0.44352 0.53612 -0.44815 C 0.53872 -0.45024 0.54167 -0.45116 0.54445 -0.45301 C 0.55018 -0.46436 0.54098 -0.44838 0.55087 -0.45787 C 0.55192 -0.45903 0.55174 -0.46158 0.55278 -0.46297 C 0.55608 -0.46852 0.56268 -0.46968 0.56754 -0.47153 C 0.57327 -0.47686 0.5783 -0.47824 0.58525 -0.4801 C 0.59914 -0.4882 0.61442 -0.48889 0.62969 -0.49121 C 0.63317 -0.49306 0.63594 -0.49676 0.63976 -0.49746 C 0.64653 -0.49908 0.654 -0.50024 0.66112 -0.50116 C 0.6698 -0.50394 0.67813 -0.50834 0.68698 -0.50973 C 0.70157 -0.51968 0.72049 -0.51783 0.73612 -0.51852 C 0.73976 -0.52014 0.74341 -0.52199 0.74723 -0.52338 C 0.7481 -0.52385 0.75001 -0.52454 0.75001 -0.52454 C 0.75817 -0.52315 0.76146 -0.52361 0.76754 -0.51852 C 0.76876 -0.51899 0.77136 -0.51968 0.77136 -0.51968 E">
                                      <p:cBhvr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14 Location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057400" cy="2803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2743200" y="2514600"/>
            <a:ext cx="3166920" cy="1430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3"/>
          <a:stretch/>
        </p:blipFill>
        <p:spPr>
          <a:xfrm>
            <a:off x="3835440" y="939960"/>
            <a:ext cx="2057400" cy="1476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4"/>
          <a:stretch/>
        </p:blipFill>
        <p:spPr>
          <a:xfrm>
            <a:off x="6019920" y="1801800"/>
            <a:ext cx="1197000" cy="2160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5"/>
          <a:stretch/>
        </p:blipFill>
        <p:spPr>
          <a:xfrm>
            <a:off x="7315200" y="1676520"/>
            <a:ext cx="1463760" cy="38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"/>
          <p:cNvPicPr/>
          <p:nvPr/>
        </p:nvPicPr>
        <p:blipFill>
          <a:blip r:embed="rId6"/>
          <a:stretch/>
        </p:blipFill>
        <p:spPr>
          <a:xfrm>
            <a:off x="609480" y="4038480"/>
            <a:ext cx="6637320" cy="1494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7"/>
          <a:stretch/>
        </p:blipFill>
        <p:spPr>
          <a:xfrm>
            <a:off x="0" y="1066680"/>
            <a:ext cx="3105000" cy="5791320"/>
          </a:xfrm>
          <a:prstGeom prst="rect">
            <a:avLst/>
          </a:prstGeom>
          <a:ln w="0">
            <a:noFill/>
          </a:ln>
        </p:spPr>
      </p:pic>
      <p:pic>
        <p:nvPicPr>
          <p:cNvPr id="202" name="TextBox 9" descr=""/>
          <p:cNvPicPr/>
          <p:nvPr/>
        </p:nvPicPr>
        <p:blipFill>
          <a:blip r:embed="rId8"/>
          <a:stretch/>
        </p:blipFill>
        <p:spPr>
          <a:xfrm>
            <a:off x="-6480" y="3121200"/>
            <a:ext cx="1030320" cy="37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Variety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990360"/>
            <a:ext cx="5334120" cy="2819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Variety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9903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-inform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thcon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457200" y="2438280"/>
            <a:ext cx="3257640" cy="2971800"/>
          </a:xfrm>
          <a:prstGeom prst="wedgeEllipseCallout">
            <a:avLst>
              <a:gd name="adj1" fmla="val 57754"/>
              <a:gd name="adj2" fmla="val 44675"/>
            </a:avLst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ythconcep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larger denominator means a larger amou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ow might you dispel this myt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3962520" y="1905120"/>
            <a:ext cx="4572000" cy="3429000"/>
          </a:xfrm>
          <a:prstGeom prst="wedgeEllipseCallout">
            <a:avLst>
              <a:gd name="adj1" fmla="val 55981"/>
              <a:gd name="adj2" fmla="val -37620"/>
            </a:avLst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earch-Informed Instru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t connections between fractions, multiplication, and division through exploration in context of fair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gage students in counting by unit f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29718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502452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1" name="Rectangle 4"/>
          <p:cNvSpPr/>
          <p:nvPr/>
        </p:nvSpPr>
        <p:spPr>
          <a:xfrm>
            <a:off x="6858000" y="1295280"/>
            <a:ext cx="1752480" cy="198144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29718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502452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4" name="Rectangle 10"/>
          <p:cNvSpPr/>
          <p:nvPr/>
        </p:nvSpPr>
        <p:spPr>
          <a:xfrm>
            <a:off x="7315200" y="304920"/>
            <a:ext cx="1447920" cy="114300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29718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502452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7" name="Rectangle 4"/>
          <p:cNvSpPr/>
          <p:nvPr/>
        </p:nvSpPr>
        <p:spPr>
          <a:xfrm>
            <a:off x="5181480" y="1219320"/>
            <a:ext cx="1752840" cy="152388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29718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502452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0" name="Rectangle 4"/>
          <p:cNvSpPr/>
          <p:nvPr/>
        </p:nvSpPr>
        <p:spPr>
          <a:xfrm>
            <a:off x="5181480" y="2743200"/>
            <a:ext cx="3505320" cy="297180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29718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502452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3" name="Rectangle 4"/>
          <p:cNvSpPr/>
          <p:nvPr/>
        </p:nvSpPr>
        <p:spPr>
          <a:xfrm>
            <a:off x="5181480" y="5715000"/>
            <a:ext cx="3505320" cy="83808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29718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502452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6" name="Rectangle 4"/>
          <p:cNvSpPr/>
          <p:nvPr/>
        </p:nvSpPr>
        <p:spPr>
          <a:xfrm>
            <a:off x="3886200" y="990720"/>
            <a:ext cx="1219320" cy="556236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90000"/>
            <a:ext cx="29718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502452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9" name="Rectangle 4"/>
          <p:cNvSpPr/>
          <p:nvPr/>
        </p:nvSpPr>
        <p:spPr>
          <a:xfrm>
            <a:off x="3886200" y="990720"/>
            <a:ext cx="1219320" cy="38088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54E4-168F-41EF-B340-996C1A8DAF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46ba9"/>
                </a:solidFill>
                <a:latin typeface="Tahoma"/>
                <a:ea typeface="Tahoma"/>
              </a:rPr>
              <a:t>Math Trails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cxnSp>
        <p:nvCxnSpPr>
          <p:cNvPr id="98" name="Curved Connector 15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Chart – 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484200" y="1287360"/>
            <a:ext cx="3879720" cy="503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Chart – 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84200" y="1287360"/>
            <a:ext cx="3879720" cy="503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4" name=""/>
          <p:cNvSpPr txBox="1"/>
          <p:nvPr/>
        </p:nvSpPr>
        <p:spPr>
          <a:xfrm>
            <a:off x="4723920" y="1219320"/>
            <a:ext cx="2057400" cy="4495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ontent Placeholder 2"/>
          <p:cNvSpPr/>
          <p:nvPr/>
        </p:nvSpPr>
        <p:spPr>
          <a:xfrm>
            <a:off x="6858000" y="1219320"/>
            <a:ext cx="2057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Chart – 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4716360" y="1270080"/>
            <a:ext cx="3886200" cy="505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>
            <a:off x="484200" y="1287360"/>
            <a:ext cx="3879720" cy="503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Chart – 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4716360" y="1270080"/>
            <a:ext cx="3886200" cy="505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484200" y="1287360"/>
            <a:ext cx="3879720" cy="503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42" name="Rectangle 5"/>
          <p:cNvSpPr/>
          <p:nvPr/>
        </p:nvSpPr>
        <p:spPr>
          <a:xfrm>
            <a:off x="5334120" y="1981080"/>
            <a:ext cx="2590560" cy="190512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Chart – 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4716360" y="1270080"/>
            <a:ext cx="3886200" cy="505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484200" y="1287360"/>
            <a:ext cx="3879720" cy="503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46" name="Rectangle 5"/>
          <p:cNvSpPr/>
          <p:nvPr/>
        </p:nvSpPr>
        <p:spPr>
          <a:xfrm>
            <a:off x="4800600" y="3886200"/>
            <a:ext cx="3657600" cy="175248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Planning Chart – Trail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4716360" y="1270080"/>
            <a:ext cx="3886200" cy="505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484200" y="1287360"/>
            <a:ext cx="3879720" cy="5037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0" name="Rectangle 5"/>
          <p:cNvSpPr/>
          <p:nvPr/>
        </p:nvSpPr>
        <p:spPr>
          <a:xfrm flipV="1">
            <a:off x="4800600" y="5637960"/>
            <a:ext cx="3657600" cy="304920"/>
          </a:xfrm>
          <a:prstGeom prst="rect">
            <a:avLst/>
          </a:prstGeom>
          <a:noFill/>
          <a:ln w="763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Kempenfelt Conference Centr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5943600" cy="4384800"/>
          </a:xfrm>
          <a:prstGeom prst="rect">
            <a:avLst/>
          </a:prstGeom>
          <a:ln w="0">
            <a:noFill/>
          </a:ln>
        </p:spPr>
      </p:pic>
      <p:sp>
        <p:nvSpPr>
          <p:cNvPr id="253" name="Smiley Face 3"/>
          <p:cNvSpPr/>
          <p:nvPr/>
        </p:nvSpPr>
        <p:spPr>
          <a:xfrm>
            <a:off x="160020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8.14815E-006 L 0.0823 0.22824 L 0.25087 0.33564 L 0.15556 0.12083 L 0.38507 0.07523 L 0.36754 0.04074 L 0.39809 0.01712 L 0.54341 0.03078 L 0.42223 -0.00626 L 0.56112 -0.17176 L 0.46841 -0.17778 L 0.41563 -0.13334 L 0.24445 -0.18033 L 0.06389 -0.14329 L -8.33333E-007 -8.14815E-006 Z">
                                      <p:cBhvr>
                                        <p:cTn id="117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Materials and Instruction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rail Guide p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p and planning chart for each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5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hen you are read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Materials and Instruction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rail Guide p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p and planning chart for each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5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hen you are read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019920" y="2286000"/>
            <a:ext cx="2695320" cy="32544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3962520" y="4572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Keep an eye on the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7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8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Happy Trails to You!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9907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Form a group of 5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Get one Trail Guide for you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Get a starting location and 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Get one map and planning sheet for each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Bring a 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Start when you are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0" y="44956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See mathematics everyw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Macintosh HD:Users:judyduss:Desktop:1 Happy Trails.m4a" descr=""/>
          <p:cNvPicPr/>
          <p:nvPr/>
        </p:nvPicPr>
        <p:blipFill>
          <a:blip r:embed="rId1"/>
          <a:stretch/>
        </p:blipFill>
        <p:spPr>
          <a:xfrm>
            <a:off x="7924680" y="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83344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5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719E-9963-4D83-A9E1-84AE760B4D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46ba9"/>
                </a:solidFill>
                <a:latin typeface="Tahoma"/>
                <a:ea typeface="Tahoma"/>
              </a:rPr>
              <a:t>Math Trails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01" name="Rectangle 9" descr=""/>
          <p:cNvPicPr/>
          <p:nvPr/>
        </p:nvPicPr>
        <p:blipFill>
          <a:blip r:embed="rId1"/>
          <a:stretch/>
        </p:blipFill>
        <p:spPr>
          <a:xfrm>
            <a:off x="298440" y="2279520"/>
            <a:ext cx="3578400" cy="351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cxnSp>
        <p:nvCxnSpPr>
          <p:cNvPr id="103" name="Curved Connector 6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89EC-00B7-4CF5-BF6E-6681F2BBCB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46ba9"/>
                </a:solidFill>
                <a:latin typeface="Tahoma"/>
                <a:ea typeface="Tahoma"/>
              </a:rPr>
              <a:t>Math Trails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06" name="Rectangle 9" descr=""/>
          <p:cNvPicPr/>
          <p:nvPr/>
        </p:nvPicPr>
        <p:blipFill>
          <a:blip r:embed="rId1"/>
          <a:stretch/>
        </p:blipFill>
        <p:spPr>
          <a:xfrm>
            <a:off x="298440" y="2279520"/>
            <a:ext cx="3578400" cy="351180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11" descr=""/>
          <p:cNvPicPr/>
          <p:nvPr/>
        </p:nvPicPr>
        <p:blipFill>
          <a:blip r:embed="rId2"/>
          <a:stretch/>
        </p:blipFill>
        <p:spPr>
          <a:xfrm>
            <a:off x="4950000" y="2279520"/>
            <a:ext cx="3389040" cy="2262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3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cxnSp>
        <p:nvCxnSpPr>
          <p:cNvPr id="109" name="Curved Connector 14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B673-6CB3-4945-BB80-C965F486C9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46ba9"/>
                </a:solidFill>
                <a:latin typeface="Tahoma"/>
                <a:ea typeface="Tahoma"/>
              </a:rPr>
              <a:t>Math Trails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12" name="Rectangle 9" descr=""/>
          <p:cNvPicPr/>
          <p:nvPr/>
        </p:nvPicPr>
        <p:blipFill>
          <a:blip r:embed="rId1"/>
          <a:stretch/>
        </p:blipFill>
        <p:spPr>
          <a:xfrm>
            <a:off x="298440" y="2279520"/>
            <a:ext cx="3578400" cy="351180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11" descr=""/>
          <p:cNvPicPr/>
          <p:nvPr/>
        </p:nvPicPr>
        <p:blipFill>
          <a:blip r:embed="rId2"/>
          <a:stretch/>
        </p:blipFill>
        <p:spPr>
          <a:xfrm>
            <a:off x="4950000" y="2279520"/>
            <a:ext cx="3389040" cy="226224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13" descr=""/>
          <p:cNvPicPr/>
          <p:nvPr/>
        </p:nvPicPr>
        <p:blipFill>
          <a:blip r:embed="rId3"/>
          <a:stretch/>
        </p:blipFill>
        <p:spPr>
          <a:xfrm>
            <a:off x="3419640" y="2736720"/>
            <a:ext cx="2279520" cy="171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cxnSp>
        <p:nvCxnSpPr>
          <p:cNvPr id="116" name="Curved Connector 14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311D-BD2F-4BE5-B1E4-4AE199BCF3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46ba9"/>
                </a:solidFill>
                <a:latin typeface="Tahoma"/>
                <a:ea typeface="Tahoma"/>
              </a:rPr>
              <a:t>Math Trails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19" name="Rectangle 9" descr=""/>
          <p:cNvPicPr/>
          <p:nvPr/>
        </p:nvPicPr>
        <p:blipFill>
          <a:blip r:embed="rId1"/>
          <a:stretch/>
        </p:blipFill>
        <p:spPr>
          <a:xfrm>
            <a:off x="298440" y="2279520"/>
            <a:ext cx="3578400" cy="351180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11" descr=""/>
          <p:cNvPicPr/>
          <p:nvPr/>
        </p:nvPicPr>
        <p:blipFill>
          <a:blip r:embed="rId2"/>
          <a:stretch/>
        </p:blipFill>
        <p:spPr>
          <a:xfrm>
            <a:off x="4950000" y="2279520"/>
            <a:ext cx="3389040" cy="226224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12" descr=""/>
          <p:cNvPicPr/>
          <p:nvPr/>
        </p:nvPicPr>
        <p:blipFill>
          <a:blip r:embed="rId3"/>
          <a:stretch/>
        </p:blipFill>
        <p:spPr>
          <a:xfrm>
            <a:off x="2322360" y="3956040"/>
            <a:ext cx="3926160" cy="184140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13" descr=""/>
          <p:cNvPicPr/>
          <p:nvPr/>
        </p:nvPicPr>
        <p:blipFill>
          <a:blip r:embed="rId4"/>
          <a:stretch/>
        </p:blipFill>
        <p:spPr>
          <a:xfrm>
            <a:off x="3419640" y="2736720"/>
            <a:ext cx="2279520" cy="171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cxnSp>
        <p:nvCxnSpPr>
          <p:cNvPr id="124" name="Curved Connector 14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94B3-F7BE-4747-B228-5799A94B46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46ba9"/>
                </a:solidFill>
                <a:latin typeface="Tahoma"/>
                <a:ea typeface="Tahoma"/>
              </a:rPr>
              <a:t>Math Trails</a:t>
            </a:r>
            <a:endParaRPr b="0" lang="en-US" sz="6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27" name="Rectangle 9" descr=""/>
          <p:cNvPicPr/>
          <p:nvPr/>
        </p:nvPicPr>
        <p:blipFill>
          <a:blip r:embed="rId1"/>
          <a:stretch/>
        </p:blipFill>
        <p:spPr>
          <a:xfrm>
            <a:off x="298440" y="2279520"/>
            <a:ext cx="3578400" cy="3511800"/>
          </a:xfrm>
          <a:prstGeom prst="rect">
            <a:avLst/>
          </a:prstGeom>
          <a:ln w="0">
            <a:noFill/>
          </a:ln>
        </p:spPr>
      </p:pic>
      <p:pic>
        <p:nvPicPr>
          <p:cNvPr id="128" name="Rectangle 11" descr=""/>
          <p:cNvPicPr/>
          <p:nvPr/>
        </p:nvPicPr>
        <p:blipFill>
          <a:blip r:embed="rId2"/>
          <a:stretch/>
        </p:blipFill>
        <p:spPr>
          <a:xfrm>
            <a:off x="4950000" y="2279520"/>
            <a:ext cx="3389040" cy="2262240"/>
          </a:xfrm>
          <a:prstGeom prst="rect">
            <a:avLst/>
          </a:prstGeom>
          <a:ln w="0">
            <a:noFill/>
          </a:ln>
        </p:spPr>
      </p:pic>
      <p:pic>
        <p:nvPicPr>
          <p:cNvPr id="129" name="Rectangle 12" descr=""/>
          <p:cNvPicPr/>
          <p:nvPr/>
        </p:nvPicPr>
        <p:blipFill>
          <a:blip r:embed="rId3"/>
          <a:stretch/>
        </p:blipFill>
        <p:spPr>
          <a:xfrm>
            <a:off x="2322360" y="3956040"/>
            <a:ext cx="3926160" cy="184140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13" descr=""/>
          <p:cNvPicPr/>
          <p:nvPr/>
        </p:nvPicPr>
        <p:blipFill>
          <a:blip r:embed="rId4"/>
          <a:stretch/>
        </p:blipFill>
        <p:spPr>
          <a:xfrm>
            <a:off x="3419640" y="2736720"/>
            <a:ext cx="2279520" cy="17193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4"/>
          <p:cNvSpPr/>
          <p:nvPr/>
        </p:nvSpPr>
        <p:spPr>
          <a:xfrm>
            <a:off x="2666880" y="533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udents  teachers   families  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Curved Connector 15"/>
          <p:cNvCxnSpPr/>
          <p:nvPr/>
        </p:nvCxnSpPr>
        <p:spPr>
          <a:xfrm flipV="1">
            <a:off x="1066320" y="1142640"/>
            <a:ext cx="7087320" cy="358200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50760">
            <a:solidFill>
              <a:srgbClr val="000000"/>
            </a:solidFill>
            <a:prstDash val="dashDot"/>
            <a:miter/>
            <a:headEnd len="med" type="oval" w="med"/>
            <a:tailEnd len="lg" type="stealth" w="lg"/>
          </a:ln>
        </p:spPr>
      </p:cxnSp>
      <p:pic>
        <p:nvPicPr>
          <p:cNvPr id="133" name="Picture 8" descr=""/>
          <p:cNvPicPr/>
          <p:nvPr/>
        </p:nvPicPr>
        <p:blipFill>
          <a:blip r:embed="rId5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ca9"/>
                </a:solidFill>
                <a:latin typeface="Arial"/>
              </a:rPr>
              <a:t>Kempenfelt Conference Centr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15200" cy="314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6" name="Smiley Face 3"/>
          <p:cNvSpPr/>
          <p:nvPr/>
        </p:nvSpPr>
        <p:spPr>
          <a:xfrm>
            <a:off x="2057400" y="4419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iley Face 4"/>
          <p:cNvSpPr/>
          <p:nvPr/>
        </p:nvSpPr>
        <p:spPr>
          <a:xfrm>
            <a:off x="3886200" y="3200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6 -0.00301 C 0.029 -0.00717 0.029 -0.01551 0.03473 -0.01782 C 0.03907 -0.02199 0.04393 -0.02361 0.04861 -0.02662 C 0.05174 -0.02893 0.05452 -0.03125 0.05799 -0.03264 C 0.05886 -0.03356 0.05973 -0.03472 0.06077 -0.03518 C 0.06146 -0.03588 0.06268 -0.03565 0.06355 -0.03634 C 0.07118 -0.04328 0.06181 -0.03796 0.0691 -0.04143 C 0.0717 -0.04722 0.07952 -0.05278 0.08473 -0.05486 C 0.09011 -0.05995 0.09636 -0.06342 0.10243 -0.06736 C 0.10643 -0.07453 0.10799 -0.08356 0.10973 -0.0919 C 0.1092 -0.09606 0.1099 -0.10254 0.10695 -0.10555 C 0.10174 -0.11088 0.08559 -0.11018 0.08108 -0.11041 C 0.07761 -0.11227 0.07657 -0.11528 0.07361 -0.11782 C 0.0698 -0.12592 0.06441 -0.13102 0.05799 -0.13403 C 0.05504 -0.13958 0.04792 -0.1419 0.04306 -0.14375 C 0.03872 -0.14953 0.03368 -0.1537 0.0283 -0.15741 C 0.02396 -0.16597 0.02848 -0.15903 0.01528 -0.16366 C 0.00868 -0.1662 0.00539 -0.16852 -0.00139 -0.16967 C -0.00243 -0.1706 -0.00416 -0.17222 -0.00416 -0.17199 E">
                                      <p:cBhvr>
                                        <p:cTn id="2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9.25926E-006 C 0.01615 0.00718 0.0375 0.01366 0.05452 0.01598 C 0.06372 0.02038 0.04931 0.01366 0.07396 0.01852 C 0.075 0.01852 0.07552 0.02061 0.07674 0.02107 C 0.07882 0.02176 0.09289 0.02315 0.09341 0.02338 C 0.09809 0.02454 0.10243 0.02593 0.10729 0.02709 C 0.1125 0.02963 0.10973 0.03403 0.11476 0.0382 C 0.1158 0.0426 0.11684 0.04723 0.11754 0.05186 C 0.11841 0.0595 0.12032 0.07524 0.12032 0.07524 C 0.12066 0.08866 0.11858 0.11922 0.12587 0.13334 C 0.13091 0.15533 0.16407 0.15718 0.17674 0.15811 C 0.18368 0.15857 0.19098 0.15857 0.19809 0.15926 C 0.20261 0.1595 0.20729 0.15996 0.21198 0.16042 C 0.21372 0.16112 0.21545 0.16227 0.21754 0.16297 C 0.22136 0.16389 0.22952 0.16551 0.22952 0.16551 C 0.24775 0.16505 0.26598 0.16482 0.2842 0.16413 C 0.29341 0.16366 0.29948 0.15301 0.30729 0.14931 C 0.31059 0.14468 0.31389 0.13959 0.31667 0.1345 C 0.32153 0.1132 0.31736 0.13357 0.31945 0.08635 C 0.31945 0.0838 0.32084 0.0757 0.32223 0.07408 C 0.32379 0.072 0.32778 0.06922 0.32778 0.06922 C 0.33212 0.07014 0.3375 0.07107 0.34063 0.07663 C 0.3415 0.07825 0.34202 0.08033 0.34341 0.08149 C 0.34514 0.08311 0.35035 0.08403 0.35278 0.08519 C 0.35434 0.08357 0.35677 0.08334 0.35834 0.08149 C 0.3599 0.07917 0.3599 0.07547 0.36111 0.07292 C 0.36007 0.06366 0.36181 0.05649 0.35643 0.05186 C 0.35365 0.04931 0.34914 0.04723 0.34618 0.04561 C 0.34427 0.04445 0.34063 0.04329 0.34063 0.04329 C 0.329 0.03241 0.31111 0.03635 0.29896 0.03588 C 0.29861 0.03565 0.29011 0.03496 0.28785 0.03334 C 0.28351 0.02987 0.27986 0.02663 0.275 0.02477 C 0.26979 0.01991 0.2625 0.0095 0.25729 0.00741 C 0.25209 -0.0037 0.25434 -0.0162 0.25278 -0.02847 C 0.25243 -0.03078 0.24879 -0.03472 0.24809 -0.03587 C 0.24045 -0.04768 0.22639 -0.04745 0.21563 -0.0493 C 0.204 -0.04861 0.20469 -0.05023 0.19809 -0.04699 C 0.19532 -0.04583 0.18976 -0.04328 0.18976 -0.04328 C 0.18386 -0.03796 0.17726 -0.03449 0.17032 -0.03217 C 0.15313 -0.03287 0.13854 -0.03194 0.12309 -0.03958 C 0.12223 -0.04189 0.11945 -0.04675 0.11945 -0.0493 E">
                                      <p:cBhvr>
                                        <p:cTn id="38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1:54:26Z</dcterms:created>
  <dc:creator>CSC</dc:creator>
  <dc:description/>
  <dc:language>en-US</dc:language>
  <cp:lastModifiedBy>Judy Dussiaume</cp:lastModifiedBy>
  <dcterms:modified xsi:type="dcterms:W3CDTF">2012-06-07T20:23:16Z</dcterms:modified>
  <cp:revision>83</cp:revision>
  <dc:subject/>
  <dc:title>&lt;Title&gt;</dc:title>
</cp:coreProperties>
</file>